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008-5A78-48C6-A0DB-5087ED5E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D5F2-85F6-432A-8389-D24B5795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F1B-8AD7-4FAF-BC1F-387AF1A5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BD9-9255-4D35-AE1B-10979009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F76-5228-4062-92EB-3B7BAF6E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609-62BB-4994-9232-E982DEB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42D-0D2B-452C-BE59-55942C2C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338-6498-4840-A774-E7C1F408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402-4BFB-4804-82DC-AD7DC43C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F94-03AB-40E5-A9A7-68741C3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CE2-694D-4A6C-87C9-5DCE2E3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0F8-7C4D-4269-8C53-9A460F3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D18-3ED2-46E5-AE72-69844CC799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7.xml"/><Relationship Id="rId11" Type="http://schemas.openxmlformats.org/officeDocument/2006/relationships/hyperlink" Target="file:///&#30446;&#24405;.ppt" TargetMode="External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图形操作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981080"/>
            <a:ext cx="739152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D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CDC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GDI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和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CGdiObject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绘图程序实例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绘图程序实例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2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菜单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914400"/>
            <a:ext cx="838188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GraphMov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="mov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oveObjec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GraphTrac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="track"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960" y="476568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选择菜单“轨迹”时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ra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选择菜单“移动”时，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v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MoveOb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；调用此函数可产生沿着画好轨道运动的车轮。该函数将在后面给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添加鼠标响应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85800"/>
            <a:ext cx="838188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oveTestView::OnLButtonDown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flag= ="track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uct pointstruct *temp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pointlisth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point = pointlisthea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intlisthead = pointlisthead-&gt;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temppoi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track=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8381880" cy="6112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MoveTestView::OnMouseMove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rawtr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Pixel(point.x,point.y,RGB(0,0,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pointstruct *newpoint=new struct pointstru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point.x=point.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point.y=point.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ewpoint-&gt;next=NUL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pointlisthead= =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head=pointlisttrail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trail-&gt;next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intlisttrail=new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52280"/>
            <a:ext cx="8382240" cy="1928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MoveTestView::OnLButtonUp(UINT nFlags, CPoint po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(drawtra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rawtrack=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080" y="2327400"/>
            <a:ext cx="847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按下鼠标左键时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用户选择的是“轨迹”菜单，说明用户要绘制轨道，则把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为真，此时鼠标移动则绘制轨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在视图窗口中移动鼠标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是否要绘制轨道，在绘制轨道时首先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环境对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Pix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.x,point.y,RG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0,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）在鼠标当前点画点。并把鼠标当前点加入轨迹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鼠标左键抬起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真，把他设置为假以结束轨迹绘制。此后，鼠标再移动，将不再绘制轨迹，除非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ag==“tra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再按下鼠标左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函数中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rawtrack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914400"/>
            <a:ext cx="838188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oveTestView::CMoveTest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track=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intlisthead 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9960" y="476568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MoveOb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840" y="15840"/>
            <a:ext cx="8975880" cy="13060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oid CMoveTestView::MoveObjec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truct pointstruct *pointtemp=pointlist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nt i=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Point pointol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OOL first=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ile(point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DC *memdc=new CDC;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CreateCompatibleDC(&amp;d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!fir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Bitmap bitmap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i%2==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1.LoadBitmap(IDB_BIT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1.LoadBitmap(IDB_BIT2);//DSTIN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SelectObject(&amp;bitmap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BitBlt(pointold.x-24,pointold.y-24,48,48,memdc,0,0,PATPA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rst=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Bitmap bitma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f(i%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.LoadBitmap(IDB_BIT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map.LoadBitmap(IDB_BIT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emdc-&gt;SelectObject(&amp;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BitBlt(pointtemp-&gt;point.x-24,pointtemp-&gt;point.y-24,48,48,memdc,0,0,SRCAN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old.x=pointtemp-&gt;point.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old.y=pointtemp-&gt;point.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lete memd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temp-&gt;nex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r(int j=0;j&lt;5000000;j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list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ile(point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c.SetPixel(pointtemp-&gt;point.x,pointtemp-&gt;point.y,RGB(0,0,0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inttemp=pointtemp-&gt;nex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用来标志该绘制哪一个位图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用来判断是否是第一个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.BitB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old.x-24,pointold.y-24,48,48,memdc,0,0,PATPA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绘制位图函数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m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环境对象中的位图拷贝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标识的设备环境对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temp=pointlist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oint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ClientDC dc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SetPixel(pointtemp-&gt;point.x,pointtemp-&gt;point.y,RGB(0,0,0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temp=pointtem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车轮运动完毕后，重新绘制轨迹各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绘图程序实例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应用向导产生单文档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raw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各种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RECTAN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ELLIP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F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THR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LINEWIDTH_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工具条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光标资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" y="304920"/>
            <a:ext cx="8456400" cy="6146640"/>
            <a:chOff x="228600" y="304920"/>
            <a:chExt cx="8456400" cy="6146640"/>
          </a:xfrm>
        </p:grpSpPr>
        <p:grpSp>
          <p:nvGrpSpPr>
            <p:cNvPr id="91" name=""/>
            <p:cNvGrpSpPr/>
            <p:nvPr/>
          </p:nvGrpSpPr>
          <p:grpSpPr>
            <a:xfrm>
              <a:off x="235080" y="307440"/>
              <a:ext cx="8442720" cy="6140520"/>
              <a:chOff x="235080" y="307440"/>
              <a:chExt cx="8442720" cy="61405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35080" y="307440"/>
                <a:ext cx="1579680" cy="383760"/>
                <a:chOff x="235080" y="307440"/>
                <a:chExt cx="1579680" cy="383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9760" y="30744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菜单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5080" y="30744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815120" y="307440"/>
                <a:ext cx="3177720" cy="383760"/>
                <a:chOff x="1815120" y="307440"/>
                <a:chExt cx="3177720" cy="383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909440" y="30744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815120" y="30744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993200" y="307440"/>
                <a:ext cx="1850760" cy="383760"/>
                <a:chOff x="4993200" y="307440"/>
                <a:chExt cx="1850760" cy="383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087520" y="30744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993200" y="30744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844680" y="307440"/>
                <a:ext cx="1833120" cy="383760"/>
                <a:chOff x="6844680" y="307440"/>
                <a:chExt cx="1833120" cy="38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939000" y="30744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844680" y="30744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5080" y="691200"/>
                <a:ext cx="1579680" cy="383760"/>
                <a:chOff x="235080" y="691200"/>
                <a:chExt cx="1579680" cy="38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29760" y="69120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直线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5080" y="69120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815120" y="691200"/>
                <a:ext cx="3177720" cy="383760"/>
                <a:chOff x="1815120" y="691200"/>
                <a:chExt cx="3177720" cy="383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909440" y="69120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815120" y="69120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993200" y="691200"/>
                <a:ext cx="1850760" cy="383760"/>
                <a:chOff x="4993200" y="691200"/>
                <a:chExt cx="1850760" cy="383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087520" y="69120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直线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L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993200" y="69120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844680" y="691200"/>
                <a:ext cx="1833120" cy="383760"/>
                <a:chOff x="6844680" y="691200"/>
                <a:chExt cx="1833120" cy="383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939000" y="69120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844680" y="69120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35080" y="1074960"/>
                <a:ext cx="1579680" cy="383760"/>
                <a:chOff x="235080" y="1074960"/>
                <a:chExt cx="1579680" cy="383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29760" y="107496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矩形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5080" y="107496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815120" y="1074960"/>
                <a:ext cx="3177720" cy="383760"/>
                <a:chOff x="1815120" y="1074960"/>
                <a:chExt cx="3177720" cy="383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909440" y="107496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RECTANG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815120" y="107496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993200" y="1074960"/>
                <a:ext cx="1850760" cy="383760"/>
                <a:chOff x="4993200" y="1074960"/>
                <a:chExt cx="1850760" cy="383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087520" y="107496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矩形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R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93200" y="107496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844680" y="1074960"/>
                <a:ext cx="1833120" cy="383760"/>
                <a:chOff x="6844680" y="1074960"/>
                <a:chExt cx="1833120" cy="383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939000" y="107496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44680" y="107496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35080" y="1458720"/>
                <a:ext cx="1579680" cy="383760"/>
                <a:chOff x="235080" y="1458720"/>
                <a:chExt cx="1579680" cy="383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29760" y="145872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椭圆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5080" y="145872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815120" y="1458720"/>
                <a:ext cx="3177720" cy="383760"/>
                <a:chOff x="1815120" y="1458720"/>
                <a:chExt cx="3177720" cy="3837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909440" y="145872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ELLI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15120" y="145872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993200" y="1458720"/>
                <a:ext cx="1850760" cy="383760"/>
                <a:chOff x="4993200" y="1458720"/>
                <a:chExt cx="1850760" cy="383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087520" y="145872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椭圆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E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993200" y="145872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844680" y="1458720"/>
                <a:ext cx="1833120" cy="383760"/>
                <a:chOff x="6844680" y="1458720"/>
                <a:chExt cx="1833120" cy="383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939000" y="145872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844680" y="145872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35080" y="1842840"/>
                <a:ext cx="1579680" cy="383760"/>
                <a:chOff x="235080" y="1842840"/>
                <a:chExt cx="1579680" cy="3837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29760" y="184284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35080" y="184284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815120" y="1842840"/>
                <a:ext cx="3177720" cy="383760"/>
                <a:chOff x="1815120" y="1842840"/>
                <a:chExt cx="3177720" cy="3837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909440" y="184284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FI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15120" y="184284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93200" y="1842840"/>
                <a:ext cx="1850760" cy="383760"/>
                <a:chOff x="4993200" y="1842840"/>
                <a:chExt cx="1850760" cy="3837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87520" y="184284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F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93200" y="184284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844680" y="1842840"/>
                <a:ext cx="1833120" cy="383760"/>
                <a:chOff x="6844680" y="1842840"/>
                <a:chExt cx="1833120" cy="3837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939000" y="184284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44680" y="184284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35080" y="2226600"/>
                <a:ext cx="1579680" cy="383760"/>
                <a:chOff x="235080" y="2226600"/>
                <a:chExt cx="1579680" cy="3837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29760" y="222660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分隔线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35080" y="222660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815120" y="2226600"/>
                <a:ext cx="3177720" cy="383760"/>
                <a:chOff x="1815120" y="2226600"/>
                <a:chExt cx="3177720" cy="3837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09440" y="222660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15120" y="222660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993200" y="2226600"/>
                <a:ext cx="1850760" cy="383760"/>
                <a:chOff x="4993200" y="2226600"/>
                <a:chExt cx="1850760" cy="3837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087520" y="222660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993200" y="222660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844680" y="2226600"/>
                <a:ext cx="1833120" cy="383760"/>
                <a:chOff x="6844680" y="2226600"/>
                <a:chExt cx="1833120" cy="3837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939000" y="222660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eparat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844680" y="222660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35080" y="2610720"/>
                <a:ext cx="1579680" cy="383760"/>
                <a:chOff x="235080" y="2610720"/>
                <a:chExt cx="1579680" cy="3837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29760" y="2610720"/>
                  <a:ext cx="13899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35080" y="2610720"/>
                  <a:ext cx="157968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815120" y="2610720"/>
                <a:ext cx="3177720" cy="383760"/>
                <a:chOff x="1815120" y="2610720"/>
                <a:chExt cx="3177720" cy="3837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09440" y="2610720"/>
                  <a:ext cx="29883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815120" y="2610720"/>
                  <a:ext cx="31777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993200" y="2610720"/>
                <a:ext cx="1850760" cy="383760"/>
                <a:chOff x="4993200" y="2610720"/>
                <a:chExt cx="1850760" cy="383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087520" y="2610720"/>
                  <a:ext cx="166140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宽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993200" y="2610720"/>
                  <a:ext cx="185076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844680" y="2610720"/>
                <a:ext cx="1833120" cy="383760"/>
                <a:chOff x="6844680" y="2610720"/>
                <a:chExt cx="1833120" cy="383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939000" y="2610720"/>
                  <a:ext cx="1643760" cy="38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op-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844680" y="2610720"/>
                  <a:ext cx="1833120" cy="38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5080" y="2994480"/>
                <a:ext cx="1579680" cy="493200"/>
                <a:chOff x="235080" y="2994480"/>
                <a:chExt cx="1579680" cy="493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29760" y="299448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35080" y="299448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815120" y="2994480"/>
                <a:ext cx="3177720" cy="493200"/>
                <a:chOff x="1815120" y="2994480"/>
                <a:chExt cx="3177720" cy="493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09440" y="299448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CO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15120" y="299448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993200" y="2994480"/>
                <a:ext cx="1850760" cy="493200"/>
                <a:chOff x="4993200" y="2994480"/>
                <a:chExt cx="1850760" cy="493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087520" y="299448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线色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C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993200" y="299448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844680" y="2994480"/>
                <a:ext cx="1833120" cy="493200"/>
                <a:chOff x="6844680" y="2994480"/>
                <a:chExt cx="1833120" cy="493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939000" y="299448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844680" y="299448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35080" y="3487680"/>
                <a:ext cx="1579680" cy="493200"/>
                <a:chOff x="235080" y="3487680"/>
                <a:chExt cx="1579680" cy="493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29760" y="348768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5080" y="348768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15120" y="3487680"/>
                <a:ext cx="3177720" cy="493200"/>
                <a:chOff x="1815120" y="3487680"/>
                <a:chExt cx="3177720" cy="493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09440" y="348768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FILLCO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15120" y="348768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993200" y="3487680"/>
                <a:ext cx="1850760" cy="493200"/>
                <a:chOff x="4993200" y="3487680"/>
                <a:chExt cx="1850760" cy="493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087520" y="348768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填充色（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&amp;O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93200" y="348768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44680" y="3487680"/>
                <a:ext cx="1833120" cy="493200"/>
                <a:chOff x="6844680" y="3487680"/>
                <a:chExt cx="1833120" cy="493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939000" y="348768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44680" y="348768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35080" y="3981240"/>
                <a:ext cx="1579680" cy="493560"/>
                <a:chOff x="235080" y="3981240"/>
                <a:chExt cx="1579680" cy="4935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29760" y="3981240"/>
                  <a:ext cx="13899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5080" y="3981240"/>
                  <a:ext cx="157968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815120" y="3981240"/>
                <a:ext cx="3177720" cy="493560"/>
                <a:chOff x="1815120" y="3981240"/>
                <a:chExt cx="3177720" cy="493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09440" y="3981240"/>
                  <a:ext cx="29883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_DRAW_LINEWIDTH_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15120" y="3981240"/>
                  <a:ext cx="317772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993200" y="3981240"/>
                <a:ext cx="1850760" cy="493560"/>
                <a:chOff x="4993200" y="3981240"/>
                <a:chExt cx="1850760" cy="4935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087520" y="3981240"/>
                  <a:ext cx="166140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93200" y="3981240"/>
                  <a:ext cx="185076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844680" y="3981240"/>
                <a:ext cx="1833120" cy="493560"/>
                <a:chOff x="6844680" y="3981240"/>
                <a:chExt cx="1833120" cy="493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939000" y="3981240"/>
                  <a:ext cx="164376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844680" y="3981240"/>
                  <a:ext cx="1833120" cy="49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35080" y="4474800"/>
                <a:ext cx="1579680" cy="493200"/>
                <a:chOff x="235080" y="4474800"/>
                <a:chExt cx="1579680" cy="493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29760" y="447480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35080" y="447480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815120" y="4474800"/>
                <a:ext cx="3177720" cy="493200"/>
                <a:chOff x="1815120" y="4474800"/>
                <a:chExt cx="3177720" cy="493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909440" y="447480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TW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815120" y="447480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993200" y="4474800"/>
                <a:ext cx="1850760" cy="493200"/>
                <a:chOff x="4993200" y="4474800"/>
                <a:chExt cx="1850760" cy="493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087520" y="447480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993200" y="447480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44680" y="4474800"/>
                <a:ext cx="1833120" cy="493200"/>
                <a:chOff x="6844680" y="4474800"/>
                <a:chExt cx="1833120" cy="493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939000" y="447480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44680" y="447480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235080" y="4968000"/>
                <a:ext cx="1579680" cy="493200"/>
                <a:chOff x="235080" y="4968000"/>
                <a:chExt cx="1579680" cy="4932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9760" y="496800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35080" y="496800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815120" y="4968000"/>
                <a:ext cx="3177720" cy="493200"/>
                <a:chOff x="1815120" y="4968000"/>
                <a:chExt cx="3177720" cy="493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909440" y="496800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THRE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815120" y="496800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993200" y="4968000"/>
                <a:ext cx="1850760" cy="493200"/>
                <a:chOff x="4993200" y="4968000"/>
                <a:chExt cx="1850760" cy="4932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087520" y="496800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93200" y="496800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844680" y="4968000"/>
                <a:ext cx="1833120" cy="493200"/>
                <a:chOff x="6844680" y="4968000"/>
                <a:chExt cx="1833120" cy="493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939000" y="496800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844680" y="496800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235080" y="5461560"/>
                <a:ext cx="1579680" cy="493200"/>
                <a:chOff x="235080" y="5461560"/>
                <a:chExt cx="1579680" cy="493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29760" y="546156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35080" y="546156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815120" y="5461560"/>
                <a:ext cx="3177720" cy="493200"/>
                <a:chOff x="1815120" y="5461560"/>
                <a:chExt cx="3177720" cy="4932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909440" y="546156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FOU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815120" y="546156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993200" y="5461560"/>
                <a:ext cx="1850760" cy="493200"/>
                <a:chOff x="4993200" y="5461560"/>
                <a:chExt cx="1850760" cy="4932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087520" y="546156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993200" y="546156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844680" y="5461560"/>
                <a:ext cx="1833120" cy="493200"/>
                <a:chOff x="6844680" y="5461560"/>
                <a:chExt cx="1833120" cy="493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939000" y="546156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844680" y="546156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235080" y="5954760"/>
                <a:ext cx="1579680" cy="493200"/>
                <a:chOff x="235080" y="5954760"/>
                <a:chExt cx="1579680" cy="4932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29760" y="5954760"/>
                  <a:ext cx="13899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35080" y="5954760"/>
                  <a:ext cx="157968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815120" y="5954760"/>
                <a:ext cx="3177720" cy="493200"/>
                <a:chOff x="1815120" y="5954760"/>
                <a:chExt cx="3177720" cy="4932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909440" y="5954760"/>
                  <a:ext cx="29883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D_DRAW_LINEWIDTH_FIV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815120" y="5954760"/>
                  <a:ext cx="31777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993200" y="5954760"/>
                <a:ext cx="1850760" cy="493200"/>
                <a:chOff x="4993200" y="5954760"/>
                <a:chExt cx="1850760" cy="493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087520" y="5954760"/>
                  <a:ext cx="166140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93200" y="5954760"/>
                  <a:ext cx="185076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844680" y="5954760"/>
                <a:ext cx="1833120" cy="493200"/>
                <a:chOff x="6844680" y="5954760"/>
                <a:chExt cx="1833120" cy="4932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939000" y="5954760"/>
                  <a:ext cx="1643760" cy="49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844680" y="5954760"/>
                  <a:ext cx="1833120" cy="49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228600" y="304920"/>
              <a:ext cx="8456400" cy="6146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90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90720" y="533520"/>
          <a:ext cx="316224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33520"/>
                    <a:ext cx="31622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724280" y="60948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按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分别是“直线”、“矩形”、“椭圆”和“填充”菜单项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97180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填充光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CURSOR_F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6216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14400" y="3724200"/>
          <a:ext cx="4819680" cy="20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724200"/>
                    <a:ext cx="48196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  <p:sndAc>
      <p:stSnd>
        <p:snd r:embed="rId5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.1   C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D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了解设备环境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vice Cont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简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C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设备环境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CD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设备环境类进行简单绘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添加成员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762120"/>
            <a:ext cx="678204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lass CDrawView : public C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//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MaxX;   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用于保存屏幕尺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Max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C * m_pMemDC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itmap * m_pBitmap;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与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位图兼容的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DrawType;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画图类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nt m_nLineWidth;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OLORREF m_cLineColor;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的颜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OLORREF m_cFillColor;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填充颜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bool m_bDrawing;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是否正在画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Point m_ptStart; 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画图的起始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Point m_ptOld;          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保存鼠标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virtual ~CDrawVie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在构造函数中初始化部分成员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1930320"/>
            <a:ext cx="800100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rawView::CDra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 = new CDC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构造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Bitmap = new CBitmap; 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构造位图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DrawType = -1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程序启动时没有选中绘图类型，不处于绘图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LineWidth = 1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宽初始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个像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cLineColor = RGB(0,0,0);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线的颜色初始为黑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cFillColor = RGB(0,0,255)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填充色初始为蓝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bDrawing = false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程序启动时不处于画图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在析构造函数中释放指针变量占用的内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30320"/>
            <a:ext cx="80010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CDrawView::~CDra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elete m_pMemDC;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删除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elete m_pBitmap;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删除位图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成员变量并初始化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为视类添加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WM_CREAT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消息处理函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990720"/>
            <a:ext cx="8763120" cy="88574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t CDrawView::OnCreate(LPCREATESTRUCT lpCreateStruc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f (CView::OnCreate(lpCreateStruct) == 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// TODO: Add your specialized cre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MaxX = GetSystemMetrics(SM_CXSCREEN);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得到屏幕宽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nMaxY = GetSystemMetrics(SM_CYSCREEN);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得到屏幕高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DC * pDC = GetDC();  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获得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CreateCompatibleDC(pDC);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兼容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与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“位图”兼容的位图，位图和屏幕一样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Bitmap-&gt;CreateCompatibleBitmap(pDC, m_nMaxX, m_nMax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将兼容位图选进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pOldBitmap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用来保存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中的原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itmap * pOldBitmap = m_pMemDC-&gt;SelectObject(m_pBit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创建一个白色画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Brush bru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brush.CreateStockObject(WHITE_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将选进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的位图整个填上白色（与窗口底色一致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Rect rect(-1,-1,m_nMaxX, m_nMax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FillRect(rect,&amp;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恢复内存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中的原有位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m_pMemDC-&gt;SelectObject(pOldBitma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ReleaseDC(pDC);     //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释放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DC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菜单消息响应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视图类中添加 “直线”、“矩形”、“椭圆”、“填充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响应函数，和“线宽”菜单中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响应函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676520"/>
            <a:ext cx="8991720" cy="3959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DrawView.h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SelectDrawType(UINT nI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UpdateSelectDrawType(CCmdUI * pCmdUO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DrawLineWidth(UINT nI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afx_msg void OnUpdateDrawLineWidth(CCmdUI * pCmdU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rawView.cpp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COMMAND_RANGE(ID_DRAW_LINE,ID_DRAW_FILL, OnSelectDraw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UPDATE_COMMAND_UI_RANGE(ID_DRAW_LINE,ID_DRAW_FILL, OnUpdateSelectDrawTyp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ON_COMMAND_RANGE(ID_DRAW_LINEWIDTH_ONE,ID_DRAW_LINEWIDTH_FIVE, OnDrawLineWidth) ON_UPDATE_COMMAND_UI_RANGE(ID_DRAW_LINEWIDTH_ONE,ID_DRAW_LINEWIDTH_FIVE,OnUpdateDrawLineWidth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33520" y="76320"/>
            <a:ext cx="6705360" cy="6761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SelectDrawType(UINT n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DrawType = nID - ID_DRAW_LI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UpdateSelectDrawType(CCmdUI * pCmdU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ID = pCmdUI-&gt;m_nID - ID_DRAW_LI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ID == 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tru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LineWidth(UINT n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LineWidth = nID - ID_DRAW_LINEWIDTH_ONE +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UpdateDrawLineWidth(CCmdUI * pCmdUI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ID = pCmdUI-&gt;m_nID - ID_DRAW_LINEWIDTH_ONE +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ID == m_nLine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tru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CmdUI-&gt;SetCheck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在视图类中添加 “线色…”和“填充色…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菜单项的消息处理函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533520"/>
            <a:ext cx="7925040" cy="5649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Linecolor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olorDialog dl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Flags |= CC_PREVENTFULLOPEN | CC_RGBIN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rgbResult = m_cLine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lg.DoModal() == ID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cLineColor = dlg.GetCol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Fillcolor(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olorDialog dl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Flags |= CC_PREVENTFULLOPEN | CC_RGBIN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g.m_cc.rgbResult = m_cFill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dlg.DoModal() == ID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cFillColor = dlg.GetColo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0"/>
            <a:ext cx="8763120" cy="7224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LButtonDown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    return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正在画图，则返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tCapture();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捕获鼠标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true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示正在画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Start = point;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当前鼠标点赋给画图的起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Old  = point;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当前鼠标点赋给临时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 pt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nDrawType == 3)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是填充，处理如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定义保存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原画刷的临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定义保存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原位图的临时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brFill;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下两行根据当前填充颜色创建实心画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Fill.CreateSolidBrush(m_cFill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创建的画刷选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画刷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 = m_pMemDC-&gt;SelectObject(&amp;brFill)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兼容位图选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位图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itma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类的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xtFloodFill(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填充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一个封闭区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ExtFloodFill(point.x,point.y, m_pMemDC-&gt;GetPixel(point), FLOODFILLSURFAC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validate(false)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视窗口无效，重画视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恢复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原来的画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恢复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原来的位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false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图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0"/>
            <a:ext cx="8763120" cy="12227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MouseMove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正在画图，执行以下代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C * pDC = GetDC()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获得显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pen;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下两行根据线宽和线色创建实线画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en.CreatePen(PS_SOLID, m_nLineWidth, m_cLine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* pOldPen = pDC-&gt;SelectObject(&amp;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系统提供的空刷子选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并将原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的画刷保存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OldBrush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 = (CBrush *) pDC-&gt;SelectStockObject(NULL_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上次鼠标点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Old(m_ptStart, m_ptOld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NormalizeRec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InflateRect(m_nLineWidth, m_nLineWidth);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根据线宽扩大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内存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对应上面构造的矩形区域拷贝到显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擦掉原来画的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BitBlt(rectOld.left, rectOld.top, rectOld.Width(), rectOld.Height(),m_pMemDC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ctOld.left, rectOld.top, SRCCOP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鼠标当前点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New(m_ptStart,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直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MoveTo(m_ptStar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LineTo(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Rectangl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       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椭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DC-&gt;Ellips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DC(pD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tOld = poi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在视类中添加鼠标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0"/>
            <a:ext cx="8763120" cy="10003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LButtonUp(UINT nFlags, CPoint poin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m_bDraw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Drawing = false;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图过程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p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en.CreatePen(PS_SOLID, m_nLineWidth, m_cLine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Pen * pOldPen = m_pMemDC-&gt;SelectObject(&amp;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Brush * pOldBrush = (CBrush *) m_pMemDC-&gt;SelectStockObject(NULL_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画图起始点和鼠标当前点（画图结束点）为对角点构造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Rect rectNew(m_ptStart,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      //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直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MoveTo(m_ptStar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LineTo(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矩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Rectangl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 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画椭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Ellipse(rectNe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validate(fals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Pe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pMemDC-&gt;SelectObject(pOldBru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设备环境类绘图的一个简单例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基于对话框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BmpTes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画线和画椭圆的代码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OnPa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码解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aintDC 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这句代码是生成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aint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的实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生成后就可以调用他的函数来进行绘图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,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把画线的起点定在对话框的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坐标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一般调用格式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v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,int 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要画直线的起始点坐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,3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画线到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坐标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一般调用格式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,int 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所画直线的终止点坐标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.Ellip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0,120,160,16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；本句代码的作用是调用设备环境对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画椭圆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画椭圆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一般调用格式为：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lip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PCRECT lpR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，其中参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pR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所画椭圆的外接矩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修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Dra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752480"/>
            <a:ext cx="8229600" cy="2499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CDrawView::OnDraw(CDC* p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DrawDoc* pDoc = GetDocumen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CBitmap * pOldBitmap = m_pMemDC-&gt;SelectObject(m_p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pDC-&gt;BitBlt(0,0,m_nMaxX, m_nMaxY, m_pMemDC, 0,0, SRCCOP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m_pMemDC-&gt;SelectObject(pOldBitmap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添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M_SETCURS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的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838080"/>
            <a:ext cx="8229600" cy="5556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 CDrawView::OnSetCursor(CWnd* pWnd, UINT nHitTest, UINT messag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witch(m_nDraw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StandardCursor(IDC_CROSS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as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Cursor(ID_CURSOR_FILL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:SetCursor(AfxGetApp()-&gt;LoadStandardCursor(IDC_ARROW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CView::OnSetCursor(pWnd, nHitTest, messag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772400" y="647712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36600"/>
            <a:ext cx="8305920" cy="6357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CBmpTestDlg::OnPaint(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IsIconic()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PaintDC dc(this); // device context for pa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ndMessage(WM_ICONERASEBKGND,(WPARAM) dc.GetSafeHdc(),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Center icon in client rectang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cxIcon = GetSystemMetrics(SM_CX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cyIcon = GetSystemMetrics(SM_CY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etClientRect(&amp;rec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x = (rect.Width() - cxIcon + 1) / 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y = (rect.Height() - cyIcon + 1) / 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Draw the i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.DrawIcon(x, y, m_hIcon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aintDC dc(this);   // device context for 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MoveTo(10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LineTo(100,1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Ellipse(120,120,160,16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Dialog::OnPain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33520"/>
            <a:ext cx="8991720" cy="5892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BmpTestDlg::OnPain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if (IsIconic(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与前一页代码相同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intDC dc(this); // device context for pa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en newpen(PS_SOLID,1,RGB(0,255,0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Brush newbrush(RGB(0,0,25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Pen *pOldpen=dc.SelectObject(&amp;newp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Brush *pOldbrush=dc.SelectObject(&amp;new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MoveTo(10,1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LineTo(100,10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dc.Ellipse(80,80,120,120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SelectObject(pOldp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dc.SelectObject(pOldbrush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Dialog::OnPaint(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改变画图颜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763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代码解释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CPen new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SOLID,1,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,255,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）；生成一支颜色为绿色、宽度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像素的实心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CBrush new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,0,25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）；生成一只颜色为蓝色的画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.CPen *pOldpen=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new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把刚生成的画笔选进设备环境对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这样再画线就用新的笔了。当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参数为画笔类型时，返回值为原来所用画笔的指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.CBrush *pOldbrush=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new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把刚生成的画刷选进设备环境对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当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的参数为画刷类型时，返回值为原来所用画刷的指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.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ld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绘图完毕后把原来的画笔再选进设备环境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.dc.SelectObje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ldbrus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；绘图完毕后把原来的画刷再选进设备环境对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pe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类的构造函数声明是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Pen(int nPenStyle,int nWidth,COLORREF crCo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参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PenSty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明画笔的风格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Widt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明以象素为单位的画笔宽度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rColo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包含了画笔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PenSty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取值有以下几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SOL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创建一支实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虚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OT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点线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D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创建一支虚线和点交替的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S_DASHDOTDO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创建一支虚线和两点交替的画笔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2   GD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GdiObjec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图形设备接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GdiOb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极其派生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5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绘图程序实例一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应用向导产生单文档程序框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BmpTest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修改、添加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GRAPH_TRACK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轨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GRAPH_MOVE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移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位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B_BIT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B_BIT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数据类型及变量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7960" y="0"/>
            <a:ext cx="7603920" cy="4848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lass CMoveTestView : public C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otected: // create from serialization 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MoveTestVi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ECLARE_DYNCREATE(CMoveTestVi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String fla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BOOL drawtrac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CPoint poin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 *nex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struct pointstruct *pointlisthead,*pointlisttrai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508788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lag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判断选择的是“轨道”菜单项还是“车轮”菜单项按钮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rawtrac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当用户选择轨道菜单项时，判断是否画轨道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pointstruc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来记录轨道中各个点的结构体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listhea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户所绘制轨道的点链表的头结点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listtrai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用户所绘制轨道的点链表的尾结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3:21Z</dcterms:modified>
  <cp:revision>141</cp:revision>
  <dc:subject/>
  <dc:title>第四章   菜单、快捷键和控制条 </dc:title>
</cp:coreProperties>
</file>